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2BA-F59E-4E47-B050-5C2B6179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225-AB20-482E-A232-EF29234C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5F6-4229-46CB-AE9B-3601A6E5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489-9817-4939-9559-D400AD85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5E7-93AF-4110-A216-633C9331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BF9-77F4-41CF-98E8-D57DC404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349-0128-4509-AC89-72B59EFD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E0B-D6D9-4E38-9F50-606BC4B4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97A-AADC-4087-A38A-10D69AFF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5C7-EC6C-4BBC-B6C2-1153B41C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534-6802-4537-9541-973FB97B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689-0347-4BD4-B441-DD434879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494B-3FC4-4B12-B07D-BF85CB62E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sbe.state.il.us/ILS/science/standards.htm" TargetMode="External"/><Relationship Id="rId2" Type="http://schemas.openxmlformats.org/officeDocument/2006/relationships/hyperlink" Target="http://www.isbe.state.il.us/ILS/science/capd.htm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Teaching Biology at the Appropriate Cognitive Level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loom’s Taxonomy Verb Sit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-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C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Things to consider…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Learn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Cognitive Developmen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gnitive Think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Illinois Learning Standard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11, 12, &amp;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isbe.state.il.us/ILS/science/standard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pecific to the age level/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isbe.state.il.us/ILS/science/capd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185604"/>
          <p:cNvPicPr/>
          <p:nvPr/>
        </p:nvPicPr>
        <p:blipFill>
          <a:blip r:embed="rId3"/>
          <a:stretch/>
        </p:blipFill>
        <p:spPr>
          <a:xfrm>
            <a:off x="7772400" y="5257800"/>
            <a:ext cx="9223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Piaget’s Theory of Cognitive Development 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rete Operational S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igence is demonstrated through logical and systematic manipulation of symbols related to concrete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s 7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Operational S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igence is demonstrated through the logical use of symbols related to abstrac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escence &amp; Adult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ognitive Developmen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1" name="Picture 4" descr="piagetal"/>
          <p:cNvPicPr/>
          <p:nvPr/>
        </p:nvPicPr>
        <p:blipFill>
          <a:blip r:embed="rId1"/>
          <a:stretch/>
        </p:blipFill>
        <p:spPr>
          <a:xfrm>
            <a:off x="1066680" y="1295280"/>
            <a:ext cx="65534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ognitive Development Stage Breakdown of 14 year old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j0185604"/>
          <p:cNvPicPr/>
          <p:nvPr/>
        </p:nvPicPr>
        <p:blipFill>
          <a:blip r:embed="rId2"/>
          <a:stretch/>
        </p:blipFill>
        <p:spPr>
          <a:xfrm>
            <a:off x="7772400" y="5257800"/>
            <a:ext cx="9223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ognitive Thinking Level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6" name="Picture 5" descr="bloom.gif (3876 bytes)"/>
          <p:cNvPicPr/>
          <p:nvPr/>
        </p:nvPicPr>
        <p:blipFill>
          <a:blip r:embed="rId1"/>
          <a:stretch/>
        </p:blipFill>
        <p:spPr>
          <a:xfrm>
            <a:off x="1905120" y="2362320"/>
            <a:ext cx="5105160" cy="3655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590920" y="1752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loom’s Taxonomy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- Remembering previously learn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on/Understanding – Grasping the meaning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– Applying knowledge to actual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loom’s Taxonomy, cont’d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- Breaking down objects or ideas into simpler parts and seeing how the parts relate and are orga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sis - Rearranging component ideas into a new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 Making judgments based on internal evidence or external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j0185604"/>
          <p:cNvPicPr/>
          <p:nvPr/>
        </p:nvPicPr>
        <p:blipFill>
          <a:blip r:embed="rId1"/>
          <a:stretch/>
        </p:blipFill>
        <p:spPr>
          <a:xfrm>
            <a:off x="7391520" y="5486400"/>
            <a:ext cx="9223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8:38:24Z</dcterms:created>
  <dc:creator>elpalme</dc:creator>
  <dc:description/>
  <dc:language>en-US</dc:language>
  <cp:lastModifiedBy>elpalme</cp:lastModifiedBy>
  <dcterms:modified xsi:type="dcterms:W3CDTF">2010-08-27T20:43:59Z</dcterms:modified>
  <cp:revision>9</cp:revision>
  <dc:subject/>
  <dc:title>Teaching Biology at the Appropriate Cognitive Level</dc:title>
</cp:coreProperties>
</file>